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007F-8686-4071-A2CD-30429329514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1667-C363-4DE2-B920-3211A966AD8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973A-4067-46B3-A936-7EBDE503D73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EBBF-4983-43BA-85BC-F83029E6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6D9B-B080-42D7-8CBD-019AA62A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0B33-8B7C-4EC9-9462-7C7DB835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DDD-B78B-490D-802F-B97A6C6A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CE58-C165-46F3-8870-4FE7E208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69C1-A2F4-432B-A8F0-2DCEF3A7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6694-300F-4D26-AB04-5AB2633F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439A-D9F2-4CCE-BE17-F8C26710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E124-4A3C-4737-ADB1-0E4F1B0D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2470-041C-4F1F-83D7-9EFBE8AF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4DE2-ABA4-42EF-9DC9-91A10B91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8967-5BCB-482C-90F1-AFC31978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F2C8-EE29-4A48-ABAE-4725599D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BA26-7418-4F71-ADC5-E752DF72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7F37-AC42-4A88-B2A1-5B72F2C9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B623-ECB3-4B0D-BE1F-74FD2C07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6943-394B-48C5-8B22-5F105867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3AA-CC2A-486C-9201-78F04FA1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B257-C6E5-45A7-948F-A37EC4C9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C3E-DA8F-446C-8368-A1850467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E540-6888-431D-9CF9-E43596D1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3967-EF47-4276-A3FE-9EA1801E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AC01-0358-41E4-964A-EF4C8522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CE37-A16B-4711-9F6D-21A99C2A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278F-394A-4A63-B51A-12202E0599CC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1A33-433C-4F27-B1EE-121C1FDCA207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9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mbri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ЭФФЕКТИВНЫЕ ФОРМЫ</a:t>
            </a:r>
            <a:br>
              <a:rPr sz="3600"/>
            </a:b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И МЕХАНИЗМЫ ПОВЫШЕНИЯ ОБРАЗОВАТЕЛЬНЫХ РЕЗУЛЬТАТОВ ОБУЧАЮЩИХС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5812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СОПРОВОЖДЕНИЯ ГРУПП УЧИТЕЛЕЙ-ПРЕДМЕТНИКОВ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1143000"/>
          <a:ext cx="8229600" cy="5616720"/>
        </p:xfrm>
        <a:graphic>
          <a:graphicData uri="http://schemas.openxmlformats.org/drawingml/2006/table">
            <a:tbl>
              <a:tblPr/>
              <a:tblGrid>
                <a:gridCol w="3441600"/>
                <a:gridCol w="2768760"/>
                <a:gridCol w="201924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рта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-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июн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1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ноября 201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В 2018 ГО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екте было охваче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9 челове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чальная школа; основная и средня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, иностранный язык, математика, химия, история и обществознание, физика, географ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о око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целевы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овышению образовательных результатов обучающихся в урочной и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научно-методических рекоменд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инятию новых управленческих решений со стороны управлений образованием, административных команд, учителей-предметников, направленных на качественную подготовку выпускников к государственной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ОБРАЗОВАТЕЛЬНЫЙ ЛИФТ – 20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ая направленнос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предметно-методической компетентности учителей-предмет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ление дефицитных образователь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ания для их реализации (вариатив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образования, тьюторского сопровождения учащихся и др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принцип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евая оценка предметной и методической компетенций уч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различных форм взаимодействия в групп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образовательных результатов обучающихся в зависимости от возможностей и способностей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шная социализ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СОПРОВОЖДЕНИЯ УЧИТЕЛЕЙ-ПРЕДМЕ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136520"/>
          <a:ext cx="8610480" cy="5567400"/>
        </p:xfrm>
        <a:graphic>
          <a:graphicData uri="http://schemas.openxmlformats.org/drawingml/2006/table">
            <a:tbl>
              <a:tblPr/>
              <a:tblGrid>
                <a:gridCol w="3600360"/>
                <a:gridCol w="3257640"/>
                <a:gridCol w="1752480"/>
              </a:tblGrid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т-апрель 2019 г.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й 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юн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густ-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и работы в рамках предметных сек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НИЯ ПРОЕК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838080"/>
            <a:ext cx="7391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Дети не должны быть заложниками социального или культурного статуса своих сем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школы работают в трудных социальных условиях, то и они, а  не только гимназии и лицеи, работающие, как правило, с благополучными детьми, должны получать специальную поддержку – и методическую, и кадровую, и финансовую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.В.Пу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Яковлева Надежда Геннадьевна,  научный сотрудник отдела сопровождения ФГОС ИРО ПК (р.т. 8-342- 212-21-99; с.т. 8-909-731-01-80,  </a:t>
            </a: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e-mail fanni1909@yandex.r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ПРЕДЫСТОРИЯ ВОПРО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1760" y="1295280"/>
            <a:ext cx="776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каз Министерства образования и науки Пермского кр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28.11.2014г  № СЭД-26-01-04-1037 (пункт 13.4.9. «Об утверждении Перечня краевых мероприятий краевых, объема средств и способов закупки товаров и услуг для их реализации в 2015 году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сти бюджетные очные кур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вышения квалификации по программам дополнительного профессионального образования в рамка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евого проекта «Образовательный лифт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учителей Александровского, Бардымского, Карагайского, Косинского, Кочёвского, Ординского, Сивинского, Соликамского, Уинского, Усольского муниципальных район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жидаемый образовательный результат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владение учителями продуктивными методами и приёмами подготовки выпускников к итоговой аттестаци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лучшение результатов ГИА и ЕГЭ по русскому языку  в данных АТЕ в 2015 год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6» Александр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25» г. Губах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Средняя общеобразовательная школа №3» Гремяч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Средняя общеобразовательная школа № 1» Кизел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Госконзаводская средняя общеобразовательная школа» Куед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сновная общеобразовательная школа № 13» Лысьве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Новоильинский казачий кадетский корпус имени Атамана Ермака» Нытвенского 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Петропавловская средняя общеобразовательная школа» Октябрь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черская средняя общеобразовательная школа № 2» Очер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107» г. Перм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Деменевская средняя общеобразовательная школа» Чернуш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91» Чус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СПИСОК ОО-АП КРАЕВОГО ПРОЕКТА «ОБРАЗОВАТЕЛЬНЫЙ ЛИФТ» В 2017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– 2017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е было охваче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 челове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ы практико-ориентированные курсы повышения квалификации (72 ч.) по предметам:«русский язык», «математика», «обществознание», «биология», «химия», «английский язык» – с целью подготовки к ЕГЭ, ОГЭ, по предмету «физическая культура» – с целью повышения уровня социализации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ны модели эффективной школы на базе ОУ-апробационных площадок (МБОУ «СОШ № 1» г Кизела; МБОУ «СОШ № 6» Александровского района; МКОУ «СОШ № 3» Гремячинского района; МБОУ «СОШ № 91»» Чусовского рай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формированы сетевые проблемные группы педагогов-предметников школ с НРО, НСУ (около 200 человек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уществлена диссеминация лучших методик и практ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ились инициативные центры, точки роста по обобщению лучших методик и практик по подготовке к ОГЭ и ЕГЭ по предмету, а также осуществлена трансляция их на краевом, межрегиональном уровн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НИТОРИНГОВЫЕ ИССЛЕДОВАНИЯ ШКОЛ В 2017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52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 и проведен экспертный опрос руководителей МОУО по оценке шко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эффективности образовательной деятельности школ (НРО, СРО, ВРО) по 17 показателям – охват 732 О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социальных условий (НСУ, ОНСУ, ССУ, БСУ, ВСУ) по 18 показателям – охват 702 ОО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ы сводные списки школ по объективированным показателям образовательных результатов и социальных усло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ЧТО ОЗНАЧАЕТ «ШКОЛА С НИЗКИМИ РЕЗУЛЬТАТА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школы, в которых результаты ЕГЭ, ОГЭ ниже среднерегиональных на 15 и более бал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у анализа были взяты результаты ЕГЭ, ОГЭ по русскому языку и математике за 2016 год в СОШ Пермского кра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выведен интегральный показатель и составлен рейтинг 291 СОШ (из 701 ОО Пермского кра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му рейтингу было выявлено 55 школ, в которых интегральный показатель был ниже среднекраевого на 12 и более баллов, из них в 21 СОШ интегральный показатель был ниже среднекраевого на 14,7 и более бал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Для работы в качестве апробационных площадок было выбрано 12 школ из 12 муниципальных районов Пермского края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+   </a:t>
            </a:r>
            <a:r>
              <a:rPr b="0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присоединившиеся ОО по решению муниципалитетов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(участники - школы с низкими результатами обучения (НРО), функционирующие в социально неблагоприятных условиях (НСУ)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СПИСОК ОО-АП КРАЕВОГО ПРОЕКТА «ОБРАЗОВАТЕЛЬНЫЙ ЛИФТ» В 2018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редняя общеобразовательная школа №1» г. Охан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Основная общеобразовательная школа № 7» г. Краснока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Екатерининская средняя общеобразовательная школа» Сив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Чермозская средняя общеобразовательная школа им. В.Ершова» Иль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«Стряпунинская средняя общеобразовательная школа» Краснока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Средняя общеобразовательная школа» п.Пашия Горнозавод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таро-Шагиртская средняя общеобразовательная школа» Куед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юндюковская средняя общеобразовательная школа» Барды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Тюшевская средняя общеобразовательная школа» Октябрь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Усть-Туркская средняя общеобразовательная школа» Кунгур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исовская средняя общеобразовательная школа – Детский сад» Суксу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 «Кордонская средняя общеобразовательная школа им. М.Ю.Шатунова» Кишерт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ТЕХНИЧЕСКОЕ ЗАДАНИЕ ДЛЯ УЧИТЕЛЕЙ 2018 ГОДА.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ситу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индивидуальных затруднений обучающихся при подготовке к сдаче экзаме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предметной компетентности выпускн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воды по принятию управленческих решений, направленных на повышение образовательных результатов школьни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формата задания; сроков; актуальности;  целей, задач; условий (кадровых, технических, методических, социальных); планируемых результа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на основе диагностики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ульн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тическ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ткосрочное (четверть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ое (полугодие, год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дактическое, содержательное  наполнение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ло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9-04-22T08:38:27Z</dcterms:modified>
  <cp:revision>2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